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A6DD-7D8B-4906-8BA7-32987BA5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7B82-228E-4D2A-A140-4B106662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70A6-62E6-468B-803C-28810A7A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9C0-99E9-4662-B43F-B84FD141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BD2D3-85AE-45F2-8311-A4B3F2B5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5116-B0D5-45B4-B86B-E6E85408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9C5B-9793-4BB2-97A5-7A52F09E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73B7-2E24-4BF6-8A8D-5693158B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7138-28FB-4D46-B158-BDE80E66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4AE1-4F1D-4BE4-A742-8AAD9142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D7AE-B053-47CD-A4B5-BE28C559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4DAF-1F26-4019-9744-90FEFEBA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5890-777F-4329-A983-B275966D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1FB2-104D-40C9-A2A5-9F893DFB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1D10-1F4A-4301-819F-D01AE278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30DD-C77C-4FB8-8A69-857BCEBB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AA1B-0334-4CD1-A8B8-5D078A24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DEA-A2A9-4E1C-B290-76472935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1E88-986E-47AF-8E22-E11D4BC4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039F-C5FB-4B3E-AA22-4E7BA100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7577-FA52-4B87-8F2C-82D4BB2B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CEDE-C05B-4F33-B609-74A1E581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FBE6-D880-4D27-ABD2-30FCDB81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C2C-6155-42A7-AA93-2EA539FE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6695-E339-4EB4-9331-B60B5EDA9268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5804-E4C5-49E1-9EAF-6CB15E68F79F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D:/&#25945;&#23416;&#36039;&#26009;/Excel%202002&#31684;&#20363;&#27284;&#26696;/&#25277;&#27171;&#33287;&#27597;&#39636;&#20272;&#35336;&#27298;&#23450;.xls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Chap11 </a:t>
            </a: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統計分析</a:t>
            </a: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了解推論統計基本概念與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Excel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的關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學習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Excel 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進行抽樣與母體估計檢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學習建立變異數分析模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學習迴歸分析的模式建立與應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學習指數平滑法與移動平均法的應用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推論統計－雙母體的檢定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00000" y="1852560"/>
          <a:ext cx="7196400" cy="5187960"/>
        </p:xfrm>
        <a:graphic>
          <a:graphicData uri="http://schemas.openxmlformats.org/drawingml/2006/table">
            <a:tbl>
              <a:tblPr/>
              <a:tblGrid>
                <a:gridCol w="2030400"/>
                <a:gridCol w="516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細明體"/>
                          <a:ea typeface="華康細圓體"/>
                        </a:rPr>
                        <a:t>工具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項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說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2e2"/>
                    </a:solidFill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F-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檢定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: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兩個常態母體變異數是否相等檢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針對兩組的樣本資料，計算各組的樣本變異數與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F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值、臨界值與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P_Value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，以進行兩樣本變異數的檢定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t-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檢定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: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成對母體平均數差異檢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針對兩組成對的樣本資料，計算各組的樣本標準差與平均數、兩「成對樣本差」之標準差、臨界值、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t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值與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P_Value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，以進行兩成對樣本的平均數差異檢定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t-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檢定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: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兩個母體平均數差的檢定，假設變異數相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假設兩母體變異數相等，針對兩組抽樣自不同母體的樣本資料，計算各組的樣本標準差與平均數、兩樣本的標準差、臨界值、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t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值與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P_Value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，以進行兩樣本的平均數檢定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t-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檢定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: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兩母平均數差的檢定，假設變異數不相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假設兩母體變異數不相等，針對兩組抽樣自不同母體的樣本資料，計算各組的樣本標準差與平均數、兩樣本的標準差、臨界值、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t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值與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P_Value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，以進行兩樣本的平均數檢定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Z-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檢定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: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兩個母體平均數差異檢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假設兩母體變異數已知，針對兩組抽樣自不同母體的樣本資料，計算各組的樣本標準差與平均數、兩樣本的標準差、臨界值、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Z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值與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P_Value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，以進行兩樣本的平均數檢定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統計檢定的名詞介紹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2138400"/>
                <a:gridCol w="5557680"/>
              </a:tblGrid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名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意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2e2"/>
                    </a:solidFill>
                  </a:tcPr>
                </a:tc>
              </a:tr>
              <a:tr h="167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型一誤差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(Type one err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當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H</a:t>
                      </a:r>
                      <a:r>
                        <a:rPr b="0" lang="zh-TW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為真，但根據檢定原理拒絕了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H</a:t>
                      </a:r>
                      <a:r>
                        <a:rPr b="0" lang="zh-TW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，認為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H</a:t>
                      </a:r>
                      <a:r>
                        <a:rPr b="0" lang="zh-TW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是對的，因而採取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H</a:t>
                      </a:r>
                      <a:r>
                        <a:rPr b="0" lang="zh-TW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所對應的行動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a</a:t>
                      </a:r>
                      <a:r>
                        <a:rPr b="0" lang="zh-TW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1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。此種拒絕“對”的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H</a:t>
                      </a:r>
                      <a:r>
                        <a:rPr b="0" lang="zh-TW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之錯誤便是型一誤差。通常以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α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值表示型一誤差的最大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型二誤差</a:t>
                      </a:r>
                      <a:br>
                        <a:rPr sz="2000"/>
                      </a:b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(Type two Err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當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H</a:t>
                      </a:r>
                      <a:r>
                        <a:rPr b="0" lang="zh-TW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為真，但根據檢定原理拒絕了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H</a:t>
                      </a:r>
                      <a:r>
                        <a:rPr b="0" lang="zh-TW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，認為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H</a:t>
                      </a:r>
                      <a:r>
                        <a:rPr b="0" lang="zh-TW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是對的，因而採取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H</a:t>
                      </a:r>
                      <a:r>
                        <a:rPr b="0" lang="zh-TW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所對應的行動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a</a:t>
                      </a:r>
                      <a:r>
                        <a:rPr b="0" lang="zh-TW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0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。此種拒絕“對”的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H</a:t>
                      </a:r>
                      <a:r>
                        <a:rPr b="0" lang="zh-TW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華康細圓體"/>
                        </a:rPr>
                        <a:t>1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之錯誤便是型二誤差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Z-</a:t>
            </a: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檢定</a:t>
            </a: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兩母體平均差檢定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3841920" cy="4464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987640" y="2708280"/>
            <a:ext cx="5761080" cy="40323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851280" y="1916280"/>
            <a:ext cx="48974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F-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檢定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兩個常態母體變異數是否相等的檢定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770280" cy="43210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132000" y="1413000"/>
            <a:ext cx="5185080" cy="3004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924360" y="3357720"/>
            <a:ext cx="45352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t-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檢定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兩母體平均數差的檢定，假設變異數相等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6192720" cy="37688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564000" y="2884320"/>
            <a:ext cx="482436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t-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檢定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兩母體平均數差的檢定，假設變異數不相等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430440" cy="3456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241440" cy="2751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2411280" y="3429000"/>
            <a:ext cx="4608720" cy="3429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348000" y="2637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08360" y="2276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先檢定變異數是否相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t-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檢定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成對母體平均數差檢定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5472000" cy="3330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206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3390840" cy="4103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859280" y="2781360"/>
            <a:ext cx="36496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變異數分析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85800" y="1628640"/>
          <a:ext cx="7696080" cy="4707000"/>
        </p:xfrm>
        <a:graphic>
          <a:graphicData uri="http://schemas.openxmlformats.org/drawingml/2006/table">
            <a:tbl>
              <a:tblPr/>
              <a:tblGrid>
                <a:gridCol w="2865600"/>
                <a:gridCol w="483048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項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說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2e2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單因子變異數分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針對兩組或兩組以上的樣本資料，藉著進行變異數分析，以檢定其樣本“平均數”是否相等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雙因子變異分析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: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重複試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針對兩組或兩組以上的樣本資料，在兩個不同的因子影響下，藉由重複實驗取得實驗數據，再以變異數分析檢定其樣本平均數是否相等，來了解實驗中不同因子對結果的影響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雙因子變異分析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: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無重複試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針對兩組或兩組以上的樣本資料，在兩個不同的因子影響下，藉由不重複實驗取得實驗數據，再以進行變異數分析，檢定其樣本平均數是否相等來了解實驗中不同因子對結果的影響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單因子變異數分析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6372360" cy="19890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050920" y="2924280"/>
            <a:ext cx="612144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單因子變異數分析結論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統計量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1.0831&lt;F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臨界值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3.8853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，所以我們接受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H0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的假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沒有充分證據顯示定價策略是會影響銷售量」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推論統計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抽樣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抽樣方法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簡單隨機抽樣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分層隨機抽樣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集群抽樣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系統抽樣法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59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chap11-001" descr=""/>
          <p:cNvPicPr/>
          <p:nvPr/>
        </p:nvPicPr>
        <p:blipFill>
          <a:blip r:embed="rId1"/>
          <a:stretch/>
        </p:blipFill>
        <p:spPr>
          <a:xfrm>
            <a:off x="4500720" y="2349360"/>
            <a:ext cx="388764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雙因子變異數分析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392360" cy="2017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44211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雙因子變異數分析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重複試驗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527280" cy="2365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348000" y="1484280"/>
            <a:ext cx="45655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結論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變異來源為“生產方法”的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統計量為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18.482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，而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臨界值為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4.7472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，因為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18.482&gt;4.7472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，所以我們拒絕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H0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的假設，即不同生產方法會影響保存期限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變異來源為“原料”的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統計量為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1.9547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，而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臨界值為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3.8853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因為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1.9547&lt;3.8853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，所以我們接受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H0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的假設。換言之，不同原料不會影響保存期限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變異來源為“交互作用”的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統計量為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0.074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，而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臨界值為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3.88539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，因為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0.074&lt;3.8853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，所以我們認為生產方法與原料間不具交互作用。換句話說，產品的保存期限不會因原料配合適當的生產方法而有所差異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簡單迴歸分析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5761080" cy="3102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140360" y="3403440"/>
            <a:ext cx="42480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結論</a:t>
            </a: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00000" y="2957400"/>
            <a:ext cx="7196400" cy="23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係數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(Coefficients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A=60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；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B=5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Y(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銷售量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)=60+5X(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廣告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檢定與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廣告的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統計量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=8.6167&gt;2.306(TINV(0.05,8)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Y(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銷售量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與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X(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廣告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具有直線關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7054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結論</a:t>
            </a: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1-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00000" y="1852560"/>
            <a:ext cx="7196400" cy="35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檢定銷售量是否隨廣告量遞增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H0:β=0  v.s. H1:β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廣告的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統計量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=8.6167&gt;1.86 (t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臨界值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Y(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銷售量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隨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X(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廣告量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遞增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95%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信賴上、下限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95%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信賴區間值為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(3.6619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6.3381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95%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的把握，確信增加一單位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(1000)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的廣告量，可增加約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3.6619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至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6.3381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單位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(1000)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的銷售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結論</a:t>
            </a: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62472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結論</a:t>
            </a: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2-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852560"/>
            <a:ext cx="719640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SST=SSR+SS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迴歸變異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(SSR)--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迴歸直線可解釋部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殘差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(SSE) --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無法由線性關係解釋的部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判定係數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--R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的平方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)=0.9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，非常接近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迴歸關係相當強，解釋能力非常高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檢定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進行迴歸關係強度及迴歸模型解釋能力之顯著性檢定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統計量為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74.2484 &gt;5.3177 (FINV(0.05,1,8)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銷售量與廣告量之間具有顯著的統計關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多元迴歸分析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527640" cy="32878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042920" y="3789360"/>
            <a:ext cx="810108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結論</a:t>
            </a: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估計迴歸模式之求得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銷售額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(Y)=A*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廣告量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(X1)+B*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銷售員人數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(X2)+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因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A=3.9174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B=12.2979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C=19.8152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，因此多元迴歸模式可寫為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銷售量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=3.9174*(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廣告量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)+12.2979*(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銷售員人數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)+19.815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抽樣方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00000" y="1852560"/>
          <a:ext cx="7196400" cy="3875040"/>
        </p:xfrm>
        <a:graphic>
          <a:graphicData uri="http://schemas.openxmlformats.org/drawingml/2006/table">
            <a:tbl>
              <a:tblPr/>
              <a:tblGrid>
                <a:gridCol w="1522440"/>
                <a:gridCol w="5673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抽樣分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抽樣的方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2e2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簡單隨機抽樣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母體中的每個個體被抽中的機會都相同。常用的簡單隨機抽樣方法有摸彩法與亂數表法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分層隨機抽樣法</a:t>
                      </a: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在抽樣前先將母體個體依其在空間分佈的種類，例如母體的某種性質等，將母體劃分成若干層。然後分別自每一層利用簡單隨機抽樣法抽取若干個體組成樣本；所以在此種抽樣方式中，母體有若干層，樣本亦有若干層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集群抽樣法</a:t>
                      </a: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在抽樣前先將母體個體依特殊標準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(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自然或人為的，如以縣市區分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分成若干集群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Comic Sans MS"/>
                          <a:ea typeface="華康細圓體"/>
                        </a:rPr>
                        <a:t>(Cluster)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，以集群為抽樣單位，用簡單隨機抽樣法或非隨機抽樣，自這些集群中抽取一個或數個集群作為樣本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系統抽樣法</a:t>
                      </a: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將母體所有的個體依次排序，然後分成許多間隔，在第一個間隔中用簡單隨機抽樣法抽出第一個元素，然後每隔若干個個體抽取一個，繼而得到所需的樣本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結論</a:t>
            </a: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1-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H0:β1=0  v.s. H1:β1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廣告的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統計量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=7.6369&gt;2.365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。所以在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α=5%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下，我們拒絕接受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H0:β1=0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，即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Y(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銷售量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與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X1(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廣告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具有直線關係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H0:β2=0  v.s. H1:β2</a:t>
            </a:r>
            <a:r>
              <a:rPr b="0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銷售員人數的 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統計量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=3.2596&gt;2.365 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。所以在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α=5%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下，我們拒絕接受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H0:β2=0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，即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Y(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銷售量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與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X2(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銷售員人數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Comic Sans MS"/>
              </a:rPr>
              <a:t>具有直線關係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結論</a:t>
            </a: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848360" cy="22176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4080960"/>
            <a:ext cx="7696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判定係數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=0.9614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，很接近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X1(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廣告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及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X2(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銷售員人數）解釋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96.14%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的變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結論</a:t>
            </a: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2-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檢定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檢定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Y(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銷售量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與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X1(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廣告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X2(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銷售員人數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是否有關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統計量為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87.1023&gt;F</a:t>
            </a:r>
            <a:r>
              <a:rPr b="0" lang="zh-TW" sz="2800" spc="-1" strike="noStrike" baseline="-25000">
                <a:solidFill>
                  <a:srgbClr val="000000"/>
                </a:solidFill>
                <a:latin typeface="Comic Sans MS"/>
              </a:rPr>
              <a:t>0.05</a:t>
            </a:r>
            <a:r>
              <a:rPr b="0" lang="zh-TW" sz="2800" spc="-1" strike="noStrike" baseline="-25000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TW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TW" sz="2800" spc="-1" strike="noStrike" baseline="-25000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TW" sz="28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=4.74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與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X1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X2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有關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時間數列分析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00000" y="1852560"/>
            <a:ext cx="747072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分類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長期趨勢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季節變動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如冷氣的銷售量，電力的需求等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循環變動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經濟循環或商情循環上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不規則變動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政府政策、天災、罷工等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工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omic Sans MS"/>
              </a:rPr>
              <a:t>指數平滑法與移動平均法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時間數列—指數平滑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3390840" cy="46814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3635280" y="3354480"/>
            <a:ext cx="5508720" cy="308268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716360" y="1828800"/>
            <a:ext cx="366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指數平滑法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結論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7488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時間數列—移動平均法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196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086280" cy="4176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0" y="239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987640" y="2708280"/>
            <a:ext cx="61563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結論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727236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「趨勢線」產生迴歸曲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『圖表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加上趨勢線』指令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803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抽樣分配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4360" y="3468600"/>
          <a:ext cx="7695720" cy="1607760"/>
        </p:xfrm>
        <a:graphic>
          <a:graphicData uri="http://schemas.openxmlformats.org/drawingml/2006/table">
            <a:tbl>
              <a:tblPr/>
              <a:tblGrid>
                <a:gridCol w="2055600"/>
                <a:gridCol w="564012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要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2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說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e2e2"/>
                    </a:solidFill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母體分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母體不同，則抽樣分配亦隨之不同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樣本大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樣本大小不同，抽樣分配便也會有所不同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樣本統計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華康仿宋體W6(P)"/>
                          <a:ea typeface="華康細圓體"/>
                        </a:rPr>
                        <a:t>樣本統計量不同，則抽樣分配亦不同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最主抽樣分配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常態分配（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Normal Distribution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卡方分配（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Chi-square Distribution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分配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(F-Distribution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分配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(Student-t Distribut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周期抽樣與隨機抽樣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3381480" cy="5300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851280" y="2852640"/>
            <a:ext cx="50418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omic Sans MS"/>
              </a:rPr>
              <a:t>推論統計－母體的估計與檢定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計算信賴區間 –以「敘述統計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平均數的檢定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小樣本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--TDIST 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函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平均數的檢定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大樣本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--ZTEST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函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計算信賴區間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抽樣調查某地區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位居民的每月開銷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得到開銷如以下資料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: 11000, 36200, 24600, 8500, 51000, 20800, 17300, 42500, 31600, 17900. 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試求出此地區居民每月開銷的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98%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信賴區間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大樣本</a:t>
            </a: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TW" sz="4400" spc="-1" strike="noStrike">
                <a:solidFill>
                  <a:srgbClr val="000000"/>
                </a:solidFill>
                <a:latin typeface="Comic Sans MS"/>
              </a:rPr>
              <a:t>平均數檢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郵局宣稱其平信投遞時間不超過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天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斤隨機抽樣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54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封信件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紀錄其投遞時間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在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5%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的顯著水準下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請問郵局是否達到其保證</a:t>
            </a:r>
            <a:r>
              <a:rPr b="0" lang="zh-TW" sz="32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3:19:44Z</dcterms:created>
  <dc:creator>吳怡欣</dc:creator>
  <dc:description/>
  <dc:language>en-US</dc:language>
  <cp:lastModifiedBy>吳怡欣</cp:lastModifiedBy>
  <dcterms:modified xsi:type="dcterms:W3CDTF">2003-03-27T17:03:58Z</dcterms:modified>
  <cp:revision>4</cp:revision>
  <dc:subject/>
  <dc:title>Chap11 統計分析(2)</dc:title>
</cp:coreProperties>
</file>