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25F-83A7-4B15-A150-2C363B2A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2CF-E850-4B5B-8D82-E27A66D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622-21BD-4F8A-87BF-B9FC8537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21C-CDF3-4447-BD94-960ED22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1C47-60F0-452B-9897-E5E3D7E1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EDD5-5B4F-40A3-A003-D76FA3C2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C219-D079-4CEF-8CDC-85CDFB9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2695-E504-4E35-96F9-1D22F48D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5C0B-F371-433C-B418-48EDDCA5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7D26-5ADE-46F0-8E54-8974FF24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5810-99B0-42B4-A727-C093067E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64E-FE62-4EA6-A638-1FC0C57E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D78B-44DC-4F30-91DB-3CE5244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90A-55AC-4A03-BDD6-236AE57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0AA2-57BF-4A66-97FF-ECC6DE58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E9CD-E8A9-4B2F-B256-BBFF2115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A71-EBB7-4976-8510-CB587D73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2EF-0C8A-40CB-A9D5-5E3AA7FC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FA6-461F-4144-88AE-C9F45FCB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3CC-D0C6-4B15-824A-0D29A69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FEC-7532-4E7C-AA42-654A98F5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385-6E96-4AE7-A1F0-98C9B29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130-0229-42C9-B0E2-D4A9143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423-6B34-42BA-A335-4486580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2894-8D44-4F73-AE79-C2172D507E3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A160-A68E-4610-8048-333762BD7C0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1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的表示法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Dim A=1,000,000    </a:t>
            </a:r>
            <a:r>
              <a:rPr b="0" lang="zh-TW" sz="2800" spc="-1" strike="noStrike">
                <a:solidFill>
                  <a:srgbClr val="99cc99"/>
                </a:solidFill>
                <a:latin typeface="Arial"/>
              </a:rPr>
              <a:t>‘</a:t>
            </a:r>
            <a:r>
              <a:rPr b="0" lang="zh-TW" sz="2800" spc="-1" strike="noStrike">
                <a:solidFill>
                  <a:srgbClr val="99cc99"/>
                </a:solidFill>
                <a:latin typeface="Arial"/>
              </a:rPr>
              <a:t>錯誤</a:t>
            </a:r>
            <a:r>
              <a:rPr b="0" lang="zh-TW" sz="2800" spc="-1" strike="noStrike">
                <a:solidFill>
                  <a:srgbClr val="99cc99"/>
                </a:solidFill>
                <a:latin typeface="Arial"/>
              </a:rPr>
              <a:t>, </a:t>
            </a:r>
            <a:r>
              <a:rPr b="0" lang="zh-TW" sz="2800" spc="-1" strike="noStrike">
                <a:solidFill>
                  <a:srgbClr val="99cc99"/>
                </a:solidFill>
                <a:latin typeface="Arial"/>
              </a:rPr>
              <a:t>不可含逗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資料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整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005, 0, +512, -204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均為正確十進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&amp;H64: 100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進位表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&amp;O144: 100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進位表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資料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實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3.14159, 0.0016, -8000.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3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類別與變數宣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明確指定資料型別的變數只能接受相同或相容型別的資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B As Inte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C As  Decimal = 98.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B=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 B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3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類別與變數宣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B As Inte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S1 As String = “123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S2 As String = “ABC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B=S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B= S2   </a:t>
            </a:r>
            <a:r>
              <a:rPr b="0" lang="zh-TW" sz="24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0" lang="zh-TW" sz="2400" spc="-1" strike="noStrike">
                <a:solidFill>
                  <a:srgbClr val="006666"/>
                </a:solidFill>
                <a:latin typeface="Arial"/>
              </a:rPr>
              <a:t>錯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S2 = 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B = S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4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數值資料型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整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Byte: (1 byte)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範圍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0 ~ 25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Short:  (2 bytes)     -32768 ~ 3276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nteger (4 bytes)     -2    ~  2   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Long  (8 bytes)       -2    ~  2    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範圍不可超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效能與數值範圍的考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3080" y="365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1880" y="36576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-3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30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1880" y="4038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-6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4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數值資料型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實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ecimal (12 bytes)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有效位數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9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Single    ( 4 bytes) 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有效位數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-3.402823E+38 ~ 3.402823E+3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ouble   ( 8 bytes) 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有效位數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-1.79769313486232E+308 ~ 1.79769313486232E+308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4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數值資料型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有效位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如果資料的位數超過其型別的有效位數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一律四捨五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使用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ecimal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時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需注意常數的寫法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im X3 As Decimal = 1234567890123456789012345  </a:t>
            </a:r>
            <a:r>
              <a:rPr b="0" lang="zh-TW" sz="20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0" lang="zh-TW" sz="2000" spc="-1" strike="noStrike">
                <a:solidFill>
                  <a:srgbClr val="006666"/>
                </a:solidFill>
                <a:latin typeface="Arial"/>
              </a:rPr>
              <a:t>錯誤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9160" y="4572000"/>
            <a:ext cx="70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m X3 As Decimal = 1234567890123456789012345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2560" y="5126040"/>
            <a:ext cx="73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Dim X4 As Decimal = 1.234567890123456789012345 </a:t>
            </a:r>
            <a:r>
              <a:rPr b="0" lang="zh-TW" sz="2400" spc="-1" strike="noStrike">
                <a:solidFill>
                  <a:srgbClr val="006666"/>
                </a:solidFill>
                <a:latin typeface="Times New Roman"/>
              </a:rPr>
              <a:t>‘</a:t>
            </a:r>
            <a:r>
              <a:rPr b="0" lang="zh-TW" sz="2400" spc="-1" strike="noStrike">
                <a:solidFill>
                  <a:srgbClr val="006666"/>
                </a:solidFill>
                <a:latin typeface="Times New Roman"/>
              </a:rPr>
              <a:t>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1120" y="566244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m X4 As Decimal = 1.234567890123456789012345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4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數值資料型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實數數值範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接近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0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的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ecimal: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  <a:ea typeface="Arial"/>
              </a:rPr>
              <a:t>±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10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ingle: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  <a:ea typeface="Arial"/>
              </a:rPr>
              <a:t>±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1.401298E-4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ouble: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  <a:ea typeface="Arial"/>
              </a:rPr>
              <a:t>±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4.9465645841247E-32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的誤差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實數連加數次可能會產生誤差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9400" y="32004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4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數值資料型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常數的型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小數或浮點數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: Dou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2147483648 ~ 2147483647: Inte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9223372036854775808 ~ -9223372036854775807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Lo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自定數值常數的型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S: Short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: Si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: Integer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R: Dou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L: Long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D: Deci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4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數值資料型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0.5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四捨五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當被捨棄的小數值剛好等於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0.5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時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必須先判斷前一位是奇數還是偶數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如果是奇數則進位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偶數則捨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I As Integer = 4.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 = 4.5000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1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的表示法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資料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科學記號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9.75 * 10 ^ 9        (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表示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9.75 x 10 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5.6 * 10 ^ -7         (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表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5.6 x 10  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資料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浮點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9.75E+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5.6E-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743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29560" y="32623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-7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1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的表示法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字串資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RUN!PC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002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BC””xyz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日期時間資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#10/8/2002#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#17:05:10#,  #9:30:00 AM#,  #9 AM#,  #17:5#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66"/>
                </a:solidFill>
                <a:latin typeface="Arial"/>
              </a:rPr>
              <a:t>錯誤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: #24:00:00#,  #17:60:00#,  #12:00:-1#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#2/28/1997 5:03:00 PM#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1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的表示法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布林資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X As Bool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X = 2 &gt;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2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串接運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字串與字串的串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Fist, Last, Name As St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irst = “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清江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Last = “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周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Name = Fist + “ “ + L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 Name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 50 + 2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 “50” + “20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2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串接運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各種類型資料的串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 &amp;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Dim S1 = “Do you love me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Dim Reply = Tr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Dim S2 = S1 &amp; Rep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nsole.Writeline(S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nsole.Writeline( “12345.” &amp; 678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nsole.Writeline(678 &amp; 0.1234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Dim X = “VB” + 7.0   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錯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2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串接運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字串與數值相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“123” + “ABC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“123” + 10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onsole.Writeline(“123” + “100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3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類別與變數宣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字串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: St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日期時間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: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布林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: Bool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數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整數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: Byte, Short, Integer, L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實數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: Single, Dou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十進位數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: Deci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5-3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資料類別與變數宣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檢驗資料的類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TypeN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變數宣告敘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X         (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型態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Object, TypeName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Noth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測試給值後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如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X= 123), TypeName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出的變化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有彈性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但會影響執行時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變數名稱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s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型別名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Dim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變數名稱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s 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型別名稱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初始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3:01:01Z</dcterms:created>
  <dc:creator>周清江</dc:creator>
  <dc:description/>
  <dc:language>en-US</dc:language>
  <cp:lastModifiedBy>周清江</cp:lastModifiedBy>
  <dcterms:modified xsi:type="dcterms:W3CDTF">2002-10-06T05:03:49Z</dcterms:modified>
  <cp:revision>5</cp:revision>
  <dc:subject/>
  <dc:title>5-1 資料的表示法</dc:title>
</cp:coreProperties>
</file>